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E7079A96-0528-474F-93A9-72EE877A3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ECA-BDBC-4404-A55F-DC1CE887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A1A-F7BD-4CFA-8913-F1CDDEBB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7D742-B942-4A4C-AD7F-996DE3A9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3A130-50FF-4FA7-B332-1B3825F4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6ABA-4466-49EA-8DB5-00E3505E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7A491-A295-44C2-A997-3B2D70F9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86FFB-B97A-46C7-90A2-9AE19A9E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13E85-0EDD-4207-A2C7-B733191A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434BE-E0A6-4670-B611-6E56080A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81628-5272-450C-907B-53875F07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AA7B0-A955-44DA-BA49-28020B90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85626-3134-4A25-80FC-25C90093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51E-C37E-4DB7-B514-5A262E00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F51BA-1617-49DC-B110-71A7688F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637AC-8CE6-477C-8D2B-75281BBB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AA00D-E247-472F-95CE-D0A57BEA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21C99-353A-4FE0-A85D-37C1BE1A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5AAD9-DA86-4C6C-8519-154F2E22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C02E8-5A19-4D3F-9A40-E4831EEA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99BB0-9BD6-47C8-9978-94E1157A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622A4-BA51-4F75-BCEC-783312B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326E6-8325-4A38-AD01-7391243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32667-D046-4894-A233-A95CB7A3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F22-B6D5-4C35-ABD4-9A1EAD1A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77F1D-C89A-4848-9053-121DE7D7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EF4F6-5B7F-4966-8918-3B619046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7D0EB-2500-4FAE-A307-67A18708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F2845-EB8F-40B1-9331-1462C01D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4552C-D397-4712-B3AE-6F437F8D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D079B-E13F-4E89-868D-12170634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95110-7CC5-41A2-AA25-0F5C48B0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76663-470F-4CA8-A3DA-9EF046C5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F71BD-3EA9-4AAC-886A-ABEAF2C7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EFE0E-494E-4BE6-B97A-91380C9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93E4-03C1-40ED-A80E-8E143E61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C4E99-AA64-4C02-9F06-890742F9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38ABD-F9A9-4A76-9447-26142B15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46CDE-749F-4546-A828-DB91D753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63F8C-2B01-4792-9794-69C2038E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2DD28-3F8C-4362-95B4-3964CCB3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24D14-AB1A-44BF-B5EB-12F3CFE0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0EEEA-88F0-47CE-81ED-124DC876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40A37-1CB6-4A51-9C67-3CF46B32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4CC6E-88B5-46A8-BF05-BFF60884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DC1E4-8054-4272-831A-FB78E32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4FD-4324-4417-836B-C16E067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35AB1-CEF8-44AB-82A9-7A095337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AE5DB-2AFA-4888-8CF5-D17C277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A3B5C-B0FB-4B14-A175-34F56B7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78242-8F29-4C66-89EE-05E5F5DC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03948-D669-46C9-BDBF-E9230701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6FE1-D7C2-49EE-A827-C27445FF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A596-AB3F-400C-8C21-E015304A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4FB8-F193-45B0-84D8-823E2662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C54C-E66A-4A77-B664-4D6F70B9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ADA-AB37-4AD2-BD50-FECF7EC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432-1310-447F-834C-094D761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0F2B-1F12-4B12-843C-8ED15FF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63A-57F2-49F0-BE4F-86A3E447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C9BB-EF3B-4D38-B46F-B8DB527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1804-EDA3-46C9-9ADB-52026E81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E92-AB9F-4E74-8A7D-A3B573E3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CEA9-867F-4B3D-A878-CA7B004E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2450-91DA-4D53-BD90-3B60AFA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D7B2-2C70-4122-9CC5-582A70AF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F7CD-7397-423C-8C70-83CCF602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4621-8771-4512-9A8C-4D7F6275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D39-3114-4546-82E1-3886DA29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901F-D04B-475C-B0FC-D666B8B2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79DC-1E25-4AC3-BFF0-B8761A6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7352-3765-471E-9404-BEE6CF2A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C671-CA2D-438A-8512-DC21CF4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C859-2BBB-4FF6-AC91-1CC9274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875C-5AA3-43E2-8191-F07E8653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2FD1-0216-4E55-993B-7EBB71F1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54C6-E5DD-420B-8714-676EE945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D56D-1D77-47CA-AFD3-60329BD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9412-6C07-4D0B-A2C9-51AB0D4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087-D1EF-4178-8439-139B2017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2A08-BC52-4704-937C-3090C59C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FDF2-4AF6-4568-9DCB-95347494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00A0-6674-4717-A1E7-88742F75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E127-4C81-4E2A-A050-E7CB523B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D0A2-0A9F-44F6-909F-DF59C4C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B3F5-8D70-486E-9DA7-FF6C45F3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0FD0E-445C-4C19-B140-4D6F55D8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61A9-6751-4F00-B20E-DC852F08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68F0-B7FD-4B9F-AF38-3FD7E02B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F6F38-F4E8-435A-9127-A28BE38C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367-5A9A-4E6F-AE90-9E56E4AA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30F2-B4E3-4735-991A-D15D307C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F59F-DA09-46BA-96DD-5D6E9A18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EC60-7101-48CB-8169-82BB891C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70BC-73FD-4C82-94A2-455D3E25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D32EF-AB32-4A6D-83A0-38C651DA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9532-D003-4907-B893-524AD5D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0BBF-0829-4108-8F24-07E6BD5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E8C77-0F22-48B1-96C5-2E762AB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314E-5E39-4345-9E85-67E05464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8BF75-8A0B-44DB-8ADC-FFD67483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A51-E7AB-4675-9B28-F3D6198E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02669-87BE-40BD-954B-1260995E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6EBE4-B5A9-456F-9200-200CA82A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9A4A6-AA58-4DEE-AAC8-FD98C8E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F3ADF-96C1-4CDF-BF2B-C7D63944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66627-65A9-4DCA-9569-EE92C488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B8413-D5A2-4D6D-BEF3-BE0200D1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28CD5-5D19-4A0B-8D0D-A097822A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7E182-A2CD-446D-8FD8-C843B8A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3DE6-6D2A-4324-99B1-42C4649C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BBC4-BF7F-43C2-9715-78AC0664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909-1B85-4688-AF83-B7FE4AD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D78AF-A6E9-4237-9D31-8D7A2AFF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3AE08-8825-402D-868D-DD0BCB0E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3385-23E2-46C1-8103-EFEEFAE5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17AD4-0D05-4AC8-8A02-35D23604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14D9A-169B-41E5-952D-FABA4A6A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4E299-472E-492B-AEC0-8DD63B4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BD6EF-D830-4817-9AEA-E55413D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A8DB9-6045-4D17-982D-8A9E5664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0CCD9-4D7B-4201-B47E-477DC932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1E83-208E-4FA3-B3F0-601060E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264-50AF-434C-B5F9-77AB625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2426-B5E2-44EB-AD42-F5BC768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2B5EC-72D7-4632-BB0D-188BF91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869E2-C150-4CB7-8592-B6AB7876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B966-D78C-4AD7-A929-4DB1F504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4C195-54CC-4AD1-8BB9-C55EB911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A8808-2CBB-46C1-95B5-2A5E113B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28B79-3367-43C5-BA8F-E5D3E39D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FDF56-05AD-4CC6-83F5-69073FE3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5BDD-A0DB-4608-B325-ADF6A39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8E740-331A-4FCF-B3F4-0943CC68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428-3C04-441E-819E-84A3123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07A3-1EF4-4F9B-BF28-6FD8EFA0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118D-BBA2-45D4-835C-40868F6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7A7C0-1CC4-492D-938F-513B0989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DAC6D-3C81-4C9A-B2D7-21D1050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195C7-881C-42E4-9A94-2310D57B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8A88E-B849-4FCF-A567-BDFE9F8E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80F4F-8CEB-4F4E-882C-8C12FBD1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A7925-C63E-4EDA-A4EF-977857AE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2477D-357D-4C65-85C1-F2154EB7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7464F-E56D-46FC-BDA8-CA28970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C9AE50-AEA5-482E-80F8-873878B404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C26BA7-8489-4556-8673-F01E4F2DC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F6E1E3-D50A-4A0B-B8C6-AA90427E60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F6A219-C511-4AF8-B297-748D6D597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C9DD7C-C745-46D3-8E31-1A238675B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81802B-C27E-49D3-B623-282F9079DD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FCDAFD-E062-4CA8-B316-73901EABB4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D28FFC-004E-434A-911F-40959083F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C8EFE5-D75B-46BE-8518-402422D73C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655FA7-A026-4D5D-89F9-A7F4BD851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AA4AE4-A4BE-4F27-8734-175BC7ADAC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766BF1-2236-48E8-8478-540EB69F06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051720" y="2065320"/>
            <a:ext cx="401652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Here I Am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To Worship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468360" y="92160"/>
            <a:ext cx="906768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Light of the worl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 stepped down into darkness.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pened my eyes, let me see.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eauty that made this heart adore You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ope of a life spent with You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468360" y="1874880"/>
            <a:ext cx="90676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worship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say that You're my Go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're altogether lovely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rthy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nderful to m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468360" y="92160"/>
            <a:ext cx="90676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King of all days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h, so highly exalte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lorious in heaven abov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umbly You came 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 the earth You create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for love's sake became poor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468360" y="1874880"/>
            <a:ext cx="90676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worship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say that You're my Go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're altogether lovely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rthy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nderful to m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468360" y="1824120"/>
            <a:ext cx="90676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'll never know how much it cost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'll never know how much it cost 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'll never know how much it cost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'll never know how much it cost 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468360" y="92160"/>
            <a:ext cx="90676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worship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say that You're my Go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're altogether lovely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rthy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nderful to m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468360" y="849240"/>
            <a:ext cx="90676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worship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say that You're my Go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're altogether lovely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rthy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nderful to m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eter</cp:lastModifiedBy>
  <dcterms:modified xsi:type="dcterms:W3CDTF">2011-01-19T06:39:17Z</dcterms:modified>
  <cp:revision>1901</cp:revision>
  <dc:subject/>
  <dc:title>Slide 1</dc:title>
</cp:coreProperties>
</file>